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ACD-0B5A-4372-8FF1-07ED2146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314-6975-40B2-9107-7AA69C8A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8432-99E6-4A84-A9A2-56918158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F90-4785-482B-BBFE-BAEAC894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03A7-60F9-45F1-9B5D-EB3A4089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A227-1615-45FE-AD60-512BD6DD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C6ED-C31C-4182-A0A2-5B3C50D8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4885-EEDA-4C76-B064-96E1EDC7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447F-1AA6-4A48-9C54-12DD5DED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18E9-7023-4D2E-AE6C-F0861937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F49B-BC11-4254-9D2E-84446210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78C-2410-4456-B3C5-F4B453EE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8D21-F350-4397-8D7F-8BDF0A10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D3A2-F8C8-432A-A5C2-5956A381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0E77-4E51-4487-BF77-5A6B3DB0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2277-EB70-4E9F-8BF1-903EE611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ACDD-7C59-4A03-B3E2-9A44C2D2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81B8-CCE7-4E8F-A434-A90BD603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55083-2B31-49C8-840A-82101DD9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DF48C-5108-459B-9432-09B14EEB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C504E-EA61-422B-A812-A486C603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CE40C-2A26-46E7-A4E5-569BAC03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F22E-0F63-4082-A6C4-2BEEC3F4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B5088-8F28-4799-A404-D3C2E9DC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3EA6A-075C-433C-B840-0DD60763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E1C18-9130-4829-B598-9308543E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1824-203D-41F5-A573-F1C57926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C5DDD-6A1B-4D5D-A302-7DEF9E75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E28AA-41FE-41B1-9452-80D36D24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DCE85-ED80-4B99-84DE-D9BDFC55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A5B6E-DFAA-4C57-865B-24289C283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B738E-464E-4EB5-8909-870F1C85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E4BA8-001B-49E1-B810-4BE242D3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F2F-7709-4350-A587-DFA9D701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04DE0-7269-4ECF-BBFD-2F26B98C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F0E20-3DFC-4DA3-ABB8-649A41BF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A2C0E-032B-40FF-8B29-4886105C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EB5AE-F254-4353-91F4-55E3569D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1FFA9-6736-4BA7-A88E-BCB615CC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6B277-9113-4313-9511-AD6711B6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7D896-16C1-49EE-8464-E945267A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82EC1-F5DD-4167-A6E4-DF6EB1B8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5C306-CB9D-4351-9144-C3AE482A4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514-57A3-4322-A3AD-DD78E0C9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9D9-5C5F-439B-B87A-D73C3BC6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C70E-E42D-4D05-AF79-2682B0BB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663-8CAA-45FF-B18A-4B7AF72C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5746-C01E-4D81-8365-4CCD9C81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58F7-EF76-4964-83FD-9FDB6C889C7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E931-6C4E-45EF-A1D2-EF1D7000A54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926F-B107-4E38-AFB4-9EEE1D90B69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3B5D-F8BC-4CD4-AD3D-EE9471CEF66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abee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ploring the Correspondence Concept and the Importance of Transfer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3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is our Discipline? What Does it Mean to Be An “Expert” in Our Discipline? 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514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ll in the blanks for the following Stem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be a scholar of English is to ____________________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be a student of English requires students to ________________ about ________________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tudents need to study English because ___________________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chose to teach English because I feel it helps students ____________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Correspondence Concep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Content Placeholder 2" descr=""/>
          <p:cNvPicPr/>
          <p:nvPr/>
        </p:nvPicPr>
        <p:blipFill>
          <a:blip r:embed="rId1"/>
          <a:stretch/>
        </p:blipFill>
        <p:spPr>
          <a:xfrm>
            <a:off x="378000" y="1884240"/>
            <a:ext cx="831528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English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urpose:  to develop an understanding of how we define our discipline in order to apply the Correspondence Concept in our lesson and unit 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cess:  Create a visual representation of the essential elements of English as a discipline and how they are related to one another.  Please include the following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r proposed title for the discip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overall main idea/purpose of the discip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key components that are essential parts of the main idea/purpo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symbolic representation that reveals the relationships among the three items abo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ilhelm on the Correspondence Concep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unity of practice— “discipline-based practice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cedural Knowledge—strategic practices to solve open problems in a discipline (transferable skill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veloping Heuristics—learning as part of problem-solving repertoi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sential Questions—big and enduring questions that organize disciplinary conversation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terature as a means of thinking about life and ourselv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Importance of Transf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idence of understanding that is transferable involves assessing for students’ capacity to use their knowledge thoughtfully and to apply it effectively in diverse settings—that is, to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o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ubject” (Wiggins and McTighe 48)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requir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Explicit instruction on how to transf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Novel assessments that constantly demand such transf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ow-road” and “High-road” transfer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Importance of “The Why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Questions to Rememb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y does what I am teaching matter right now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ow does it count for readers, writers, problem solvers, workers and citizens of a democracy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Wilhelm and Smith, 201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ere Are We Headed Next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ur Goals and Externally Imposed Go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295280" y="2895480"/>
            <a:ext cx="2743200" cy="1905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AN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876920" y="2895480"/>
            <a:ext cx="2743200" cy="1905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AN’T CONT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or Next Cla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and consider State Standards for your grad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ad “History of English Teaching” and UBD ch.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ring THREE copies of curriculum and district standards for your grade level (email document or link to me by Thursday @ 3:00 if printing three copies is an issu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02:15:51Z</dcterms:created>
  <dc:creator>Phil Bear</dc:creator>
  <dc:description/>
  <dc:language>en-US</dc:language>
  <cp:lastModifiedBy>Phil Bear</cp:lastModifiedBy>
  <dcterms:modified xsi:type="dcterms:W3CDTF">2011-02-01T03:06:57Z</dcterms:modified>
  <cp:revision>6</cp:revision>
  <dc:subject/>
  <dc:title>What is Understanding?</dc:title>
</cp:coreProperties>
</file>